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DC7D-EC85-4166-90D0-D84E370C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42A-898B-41FD-9B48-870D824D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D34-27B3-4451-8FBB-A44C3503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E0C-D20F-4A53-9EB9-7014B504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5D3-9A44-4BC4-B7C8-B71F5A02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3C6-A665-416D-A306-25371B7D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466-F51B-4E7E-8369-6C1D2617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D69-8555-46FF-B35F-F60CFADB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5E3-B379-4349-8BEB-2E2DF87B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6D9-7956-41F4-AE21-3B82A979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721-1713-4FC5-A0A9-E356E4DE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8AA-7000-495A-83B1-92BA272D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17BB-BF0E-4116-A98E-21280093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lanalto.gov.br/ccivil_03/LEIS/L9433.htm/lart5iv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lanalto.gov.br/ccivil_03/Constituicao/Emendas/Emc/emc46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ÁLISE DO DOCUMENTO “PROCESSO DE REVISAO DO PNRH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rtha Sug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rasilia, 15 de abril de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NSAÇAO FINANCEIRA E COBRANÇA PELO USO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nsação financeira pela utilização de recursos hídricos para fins de geração de energia elétrica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,75% do valor da 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% do valor da energia produzi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istribuídos aos municípios e aos Estados, na proporção de 45% para cada um; cabendo a União os 10% restantes, o qual é dividido entre o Ministério do Meio Ambiente (3%); o Ministério de Minas e Energia (3%) e para o Fundo Nacional de Desenvolvimento Científico e Tecnológico (4%), administrado pelo Ministério da Ciência e Tecnologia,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0,75% do valor da energia produzi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stinados ao Ministério do Meio Ambiente, para aplicação na implementação da Política Nacional de Recursos Hídricos e do Sistema Nacional de Gerenciamento de Recursos Hídricos, constituindo-se esta parcela 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gamento pelo uso de recursos híd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RETO Nº 7.402, DE 22 DE DEZEMBRO DE 2010: constitui cobrança pelo uso de recursos hídricos, prevista no incis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V do art. 5o da Lei no 9.433, de 8 de janeiro de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tu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19120" y="1600200"/>
            <a:ext cx="810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aliar os avanços e desafios dos primeiros 5 anos de sua implementação (2006-2010), realizando adequações e eventuais correções de rumo no planejamento nacional da gestão dos recur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ídricos,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 deverá priorizar ações para os próximos 4 anos (2012-2015) e definir as estratégias para a sua implementaçã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especi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a atualização do conteúdo dos volum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a priorização de ações para o período 2012-20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a definição de estratégias para implementação das açõ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tos da revi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põe-se, nesta fase, que os conteúdos e resultados estratégicos da revisão estejam organizados em dois volum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NRH: Bases da Revisão e Estratégia de Implementação 2012-2015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ii)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NRH: Detalhamento das Ações Priorizadas 2012-2015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ver </a:t>
            </a:r>
            <a:r>
              <a:rPr b="0" lang="pt-BR" sz="2800" spc="-1" strike="noStrike" u="sng">
                <a:solidFill>
                  <a:srgbClr val="cc0000"/>
                </a:solidFill>
                <a:uFillTx/>
                <a:latin typeface="Arial"/>
              </a:rPr>
              <a:t>quadr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Quadr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), os quais passarão pela deliberação do CNR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ítulo da revis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NRH 2025???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la maquete apresentada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orização das ações para o período de 2011-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ualização dos volumes de detalh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ção das 30 ações prioritá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ntar a metod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todologia adotada (planilha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base nas planilhas 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ções x Regiões (Priorizadas nas RHs)”, “Ações x Regiões ( Estratégia Robusta)”, “Ações x Regiões (PPA 2008-2011)” e “Ações x Regiões (Resultante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se elencar a ação como prioritária ou não (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maior ou igual à média = elencada como prioritá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segundo o parâmetro utilizado (por exemplo: tomando como referência apenas as ações advindas das oficinas – planilha “Ações x Regiões (Priorizadas nas RHs)”,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a condição é que ações com notas maiores ou igual a 3 devem ser prioriz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lgumas ações que a planilha excluiu, nós consideramos importantes. Da mesma forma, ações que foram elencadas como prioritárias deveriam fazer parte de atividades de outras ações, etc, como está descr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é uma </a:t>
            </a:r>
            <a:r>
              <a:rPr b="1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oposição para debate e contribuições que atribui critérios para a “escolha” de ações para o PNRH”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ções prioritárias (1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s de alguns subprogramas não estão corr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ações com mais de 12 pontos que não constam na lis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centivar boas práticas e uso eficiente da água por meio de selos de reconhecimento de uso eficiente (ISO) – 27 po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r selo para reconhecimento de processos produtivos que utilizam água de forma sustentável (selo azul) – 24 po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equar o título da ação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3.2.1. Rede hidrometeorológica nacional (PNQA -ANA).”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nome do subprograma está errado também. Nas planilh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uturar???, manter, ampliar a rede hidrometeorológica de monitoramento quali-quantitativo dos recursos hídricos superficia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ruturar, manter e ampliar a rede hidrogeológica de monitoramento quali-quantitativo das águas subterrâ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valiar o título da ação: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6.4.1 Promover a recuperação e conservação de microbacias hidrográficas em áreas urban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ação 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omover a recuperação e conservação de microbacias hidrográficas no meio ru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ções prioritárias (2/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talecimento do SINGREH e dos SERH: não é so co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 ações com pontuação zero e que foram incluid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(“3.4.2. Determinar as necessidades hídricas ambientais”, “3.6.3 Identificação de metodologias e detalhamento das Ecorregiões Aquáticas brasileiras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 aç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“2.3.4.Promover a obrigatoriedade do pagamento da compensação financeira pelas PCHs e termoelétricas” </a:t>
            </a:r>
            <a:r>
              <a:rPr b="1" lang="pt-BR" sz="2000" spc="-1" strike="noStrike" u="sng">
                <a:solidFill>
                  <a:srgbClr val="cc0000"/>
                </a:solidFill>
                <a:uFillTx/>
                <a:latin typeface="Arial"/>
              </a:rPr>
              <a:t>Retir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 problemas legais nesta 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m problemas nas pontu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i considerada importante pela SRHU: com que critéri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F-88 – ART.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rt. 20. São bens da Uniã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- os que atualmente lhe pertencem e os que lhe vierem a ser atribuíd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 - as terras devolutas indispensáveis à defesa das fronteiras, das fortificações e construções militares, das vias federais de comunicação e à preservação ambiental, definidas em le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 - os lagos, rios e quaisquer correntes de água em terrenos de seu domínio, ou que banhem mais de um Estado, sirvam de limites com outros países, ou se estendam a território estrangeiro ou dele provenham, bem como os terrenos marginais e as praias fluviai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- as ilhas fluviais e lacustres nas zonas limítrofes com outros países; as praias marítimas; as ilhas oceânicas e as costeiras, excluídas, destas, as áreas referidas no art. 26, I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 as ilhas fluviais e lacustres nas zonas limítrofes com outros países; as praias marítimas; as ilhas oceânicas e as costeiras, excluídas, destas, as que contenham a sede de Municípios, exceto aquelas áreas afetadas ao serviço público e a unidade ambiental federal, e as referidas no art. 26, II;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(Redação dada pela Emenda Constitucional nº 46, de 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- os recursos naturais da plataforma continental e da zona econômica exclusiv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 - o mar territoria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I - os terrenos de marinha e seus acrescido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III - os potenciais de energia hidráulic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X - os recursos minerais, inclusive os do subsol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- as cavidades naturais subterrâneas e os sítios arqueológicos e pré-histórico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I - as terras tradicionalmente ocupadas pelos índ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§ 1º -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É assegurad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nos termos da lei, aos Estados, ao Distrito Federal e aos Municípios, bem como a órgãos da administração direta da União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articipação no resultado da exploraçã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 petróleo ou gás natural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e recursos hídricos para fins de geração de energia elétric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 de outros recursos minerais no respectivo território, plataforma continental, mar territorial ou zona econômica exclusiva, ou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ensação financeira por essa exploraçã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NÃO ENTRAM AS TERMELÉTRICAS: SÃO COMO QUALQUER OU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INDUSTRIA EM TERMOS DE USO DE RECURSOS HI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0:20:09Z</dcterms:created>
  <dc:creator>MSugai</dc:creator>
  <dc:description/>
  <dc:language>en-US</dc:language>
  <cp:lastModifiedBy>MSugai</cp:lastModifiedBy>
  <dcterms:modified xsi:type="dcterms:W3CDTF">2011-04-15T17:59:26Z</dcterms:modified>
  <cp:revision>9</cp:revision>
  <dc:subject/>
  <dc:title>Slide 1</dc:title>
</cp:coreProperties>
</file>